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88C2-F0F5-43E9-A954-7EBE930C9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D311-3C06-4F63-8B77-D6E0CED2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312D-279F-4342-A37C-12EB5909A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EC03-4135-4883-B8F5-8D6C12471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5BE7-E2E4-4DE7-B0B3-EC2A143C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65B0-8E49-4CB6-88DA-8A785549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5939-7C02-4F70-9595-FFBD3856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9C2F-445D-4D83-A380-07AB63FF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9302-99F2-44D2-95D2-AC3CB580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1BAA-F556-4C37-B4CC-EE3E34BB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29A4-2CE1-4320-8C60-D0CD66C2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B547-6557-45EB-A0DE-C32A2C19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07B9-89C1-43FC-A229-F737E35F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1F1B-863E-4662-8DC4-D6456CC1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9F97-5AD3-432B-8F08-3C216855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C9FB-F522-45B1-AC04-210700FF7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17EA-8B3E-4A1B-9C8B-C63D9588D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4DF6-56D2-4C92-84BE-F0D3BCB3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137A-404C-476C-96E9-A00A07C7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124E-4691-4D23-A8F6-FA7057EE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EF3B-F542-4CDF-88F1-EA71AB4E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78C2-FB6F-46FE-AD5E-550BC344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BBF6-74C2-40F6-B63B-454EC097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209A-4B12-4BE8-8E0B-29DAF0B0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3960-D42B-4C31-8E54-E35531820F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E8F3-6082-44AB-A8A8-46C3471B8C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Lupus Awareness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brielle Hatt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aven Early Colle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riving question and Thesi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oudy Old Style"/>
              </a:rPr>
              <a:t>Is there enough awareness about lupu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oudy Old Style"/>
              </a:rPr>
              <a:t>In order to cure lupus, we need to have more awareness toward its existence and acknowledge as a serious disease in Ame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mportant and Interesting Facts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Lupus is an autoimmune disea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It affects about 1.5 million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Michael Jackson and Toni Brax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The LA Orange 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duct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Sold cupcakes and popsic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Money went to Lupus Foundation of Amer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Mrs. Quinn wrote a check in exchange for the money that I mad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Grandmother helped make cupca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34290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This will affect my lif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Money may help others live longer liv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Made people aware at school about what lupus i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ccesses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One step closer to more awarene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I learned more about disease and how to take care of myself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hallenges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Switching my paper at the very e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Getting students to contribute in my s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uture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Dealing with Lup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Making more awareness to publ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Getting more programs in my commun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3:03:22Z</dcterms:created>
  <dc:creator>CEC 130</dc:creator>
  <dc:description/>
  <dc:language>en-US</dc:language>
  <cp:lastModifiedBy>CEC 130</cp:lastModifiedBy>
  <dcterms:modified xsi:type="dcterms:W3CDTF">2011-03-30T16:51:44Z</dcterms:modified>
  <cp:revision>6</cp:revision>
  <dc:subject/>
  <dc:title>Lupus Awareness </dc:title>
</cp:coreProperties>
</file>